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1A8-2622-4EEB-B1EE-9C692F6A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7D3-5570-475D-8FA6-96777BEB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549-8E88-45DA-9BAD-FCCC2C72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61F0-2A7F-42AE-AE71-9C37045B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C13D-F0A5-4715-AFCA-CC579811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EB26-3B28-4AEC-A5B4-39591B5D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015D-E7B3-4488-9DCD-E073434C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4A29-7F4D-4E77-8DA6-0AFDCE45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EFCF-6884-41F3-B7BB-730349460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7487-B2A1-4647-BE37-D3A9700A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0BD4-C8F1-46D9-9741-6B3AA66F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D26F-679B-46BA-A1D8-1FF13447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9618-81F0-43C7-92F7-4DD23160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2482-1144-41FD-B752-BCB9E56C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D225-62FE-48BB-B09E-A2B6AB4C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0BF7-9A85-4D56-8589-5A15D22E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0CE8-3C82-437F-B3F1-15007EAFA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FEB-17D6-49F2-A54A-D3737EEC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250-74E4-463D-90E2-1E988992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6876-E451-4E35-9F47-0288BFBC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B40-9C6E-4762-9A2E-D9D67C8C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BAA-9956-41D6-9844-1B6DC2E7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98F-8F50-4657-BF64-C70229B4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98F6-41E7-470A-B83E-F0C65238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C3A5-50E3-4D68-BFDE-44FBB44A9E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194B-5346-486E-91AA-E2FE4C3210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0732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ell Structure”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14600" y="3962520"/>
            <a:ext cx="4267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ROM CELL TO ORGANIS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28600" y="1523880"/>
            <a:ext cx="8381880" cy="5029200"/>
            <a:chOff x="228600" y="1523880"/>
            <a:chExt cx="8381880" cy="5029200"/>
          </a:xfrm>
        </p:grpSpPr>
        <p:cxnSp>
          <p:nvCxnSpPr>
            <p:cNvPr id="116" name="_s59448"/>
            <p:cNvCxnSpPr>
              <a:stCxn id="117" idx="0"/>
              <a:endCxn id="118" idx="3"/>
            </p:cNvCxnSpPr>
            <p:nvPr/>
          </p:nvCxnSpPr>
          <p:spPr>
            <a:xfrm rot="10800000">
              <a:off x="2742480" y="2242440"/>
              <a:ext cx="838800" cy="287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19" name="_s59434"/>
            <p:cNvCxnSpPr>
              <a:stCxn id="120" idx="0"/>
              <a:endCxn id="118" idx="2"/>
            </p:cNvCxnSpPr>
            <p:nvPr/>
          </p:nvCxnSpPr>
          <p:spPr>
            <a:xfrm rot="10800000">
              <a:off x="2742480" y="2242440"/>
              <a:ext cx="838800" cy="1796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1" name="_s59425"/>
            <p:cNvCxnSpPr>
              <a:stCxn id="122" idx="0"/>
              <a:endCxn id="118" idx="1"/>
            </p:cNvCxnSpPr>
            <p:nvPr/>
          </p:nvCxnSpPr>
          <p:spPr>
            <a:xfrm rot="10800000">
              <a:off x="2742480" y="2243160"/>
              <a:ext cx="838800" cy="3951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3" name="_s59423"/>
            <p:cNvCxnSpPr>
              <a:stCxn id="124" idx="0"/>
              <a:endCxn id="118" idx="0"/>
            </p:cNvCxnSpPr>
            <p:nvPr/>
          </p:nvCxnSpPr>
          <p:spPr>
            <a:xfrm rot="10800000">
              <a:off x="2742480" y="2242440"/>
              <a:ext cx="83880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8" name="_s59419"/>
            <p:cNvSpPr/>
            <p:nvPr/>
          </p:nvSpPr>
          <p:spPr>
            <a:xfrm>
              <a:off x="228600" y="1523880"/>
              <a:ext cx="5029200" cy="71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a3b2c1"/>
                </a:gs>
                <a:gs pos="50000">
                  <a:srgbClr val="ffffff"/>
                </a:gs>
                <a:gs pos="100000">
                  <a:srgbClr val="a3b2c1"/>
                </a:gs>
              </a:gsLst>
              <a:lin ang="8100000"/>
            </a:gradFill>
            <a:ln w="3240">
              <a:solidFill>
                <a:srgbClr val="a3b2c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C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he basic unit of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lif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59420"/>
            <p:cNvSpPr/>
            <p:nvPr/>
          </p:nvSpPr>
          <p:spPr>
            <a:xfrm>
              <a:off x="3581280" y="260208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59422"/>
            <p:cNvSpPr/>
            <p:nvPr/>
          </p:nvSpPr>
          <p:spPr>
            <a:xfrm>
              <a:off x="3581280" y="5834160"/>
              <a:ext cx="5029200" cy="7189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59433"/>
            <p:cNvSpPr/>
            <p:nvPr/>
          </p:nvSpPr>
          <p:spPr>
            <a:xfrm>
              <a:off x="3581280" y="367992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59447"/>
            <p:cNvSpPr/>
            <p:nvPr/>
          </p:nvSpPr>
          <p:spPr>
            <a:xfrm>
              <a:off x="3581280" y="4757760"/>
              <a:ext cx="5029200" cy="7174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8100000"/>
            </a:gra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886200" y="25909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358128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issu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5807160"/>
            <a:ext cx="54104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Organis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liv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thing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made of 1 or mor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Verdana"/>
              </a:rPr>
              <a:t>cel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72428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up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orga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orking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AME THE ORGANEL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2990880" cy="38102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43600" y="449568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d. Mitochondr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4403880"/>
            <a:ext cx="274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b. Chloropla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2133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. Golgi bod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2133720"/>
            <a:ext cx="220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a. Nucleu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2280" y="-228600"/>
            <a:ext cx="8839440" cy="6172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46483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-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524196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- 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57913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- Mitochond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62326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-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79132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- Chloropl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4800" y="62485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- Vacu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5638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7- 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6095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8- Cel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LAS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rganelles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ke foo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ound only i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la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05120" y="3429000"/>
            <a:ext cx="2762280" cy="2381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867280" y="533520"/>
            <a:ext cx="26956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CHLOROPHY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r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igmen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gives leaves &amp; stems thei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lo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ptur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nligh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nergy that is used to pro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alle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gluco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lucose is a typ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suga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05720" y="1295280"/>
            <a:ext cx="1904760" cy="1752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448000" cy="2895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467480" y="304920"/>
            <a:ext cx="1114560" cy="927000"/>
          </a:xfrm>
          <a:prstGeom prst="sun">
            <a:avLst>
              <a:gd name="adj" fmla="val 25000"/>
            </a:avLst>
          </a:prstGeom>
          <a:solidFill>
            <a:srgbClr val="ff6600"/>
          </a:solidFill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MITOCHONDRI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3924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rganelles that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energy is released by breaking down food in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rbon dioxid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KA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powerhous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b/c they releas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ner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ro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uscl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cells have 20,000 mitochondri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00600" y="1981080"/>
            <a:ext cx="39625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RIB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Float freel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attached to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 (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bosomes are made 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nucleo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914400" y="1905120"/>
            <a:ext cx="3048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9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ENDOPLASMIC RETICUL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67080" y="1904760"/>
            <a:ext cx="4300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series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lded membran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a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ov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erial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(proteins)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round in a cel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ke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veyor bel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moot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not attach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ough ER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ribosomes attach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Rough Endoplasmic Reticulum"/>
          <p:cNvPicPr/>
          <p:nvPr/>
        </p:nvPicPr>
        <p:blipFill>
          <a:blip r:embed="rId2"/>
          <a:stretch/>
        </p:blipFill>
        <p:spPr>
          <a:xfrm>
            <a:off x="990720" y="1905120"/>
            <a:ext cx="2057400" cy="1724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Smooth Endoplasmic Reticulum"/>
          <p:cNvPicPr/>
          <p:nvPr/>
        </p:nvPicPr>
        <p:blipFill>
          <a:blip r:embed="rId3"/>
          <a:stretch/>
        </p:blipFill>
        <p:spPr>
          <a:xfrm>
            <a:off x="1295280" y="3809880"/>
            <a:ext cx="22860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GOLGI BODI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GAWL jee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cke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lattene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embra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or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pack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ein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VACUOL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rary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storag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ac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as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Central Vacuole"/>
          <p:cNvPicPr/>
          <p:nvPr/>
        </p:nvPicPr>
        <p:blipFill>
          <a:blip r:embed="rId2"/>
          <a:stretch/>
        </p:blipFill>
        <p:spPr>
          <a:xfrm>
            <a:off x="685800" y="1905120"/>
            <a:ext cx="3429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000000"/>
                </a:solidFill>
                <a:uFillTx/>
                <a:latin typeface="Verdana"/>
              </a:rPr>
              <a:t>LYSOSOMES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(LI suh sohmz)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209680"/>
            <a:ext cx="7653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ord "lysosome" is Latin for "kill body."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purpose of the lysosome is to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ge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hings. They might be used to digest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r break down the cell when it d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reak down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foo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molecules,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cell wast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&amp;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worn ou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ell part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5:57:54Z</dcterms:created>
  <dc:creator>Becky Gentry</dc:creator>
  <dc:description/>
  <dc:language>en-US</dc:language>
  <cp:lastModifiedBy>nbdoe</cp:lastModifiedBy>
  <dcterms:modified xsi:type="dcterms:W3CDTF">2008-02-18T20:42:52Z</dcterms:modified>
  <cp:revision>9</cp:revision>
  <dc:subject/>
  <dc:title>“Cell Structure”  Pages 41 – 45</dc:title>
</cp:coreProperties>
</file>